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ind.wav" ContentType="audio/x-wav"/>
  <Override PartName="/ppt/media/camera.wav" ContentType="audio/x-wav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suction.wav" ContentType="audio/x-wav"/>
  <Override PartName="/ppt/media/image4.wmf" ContentType="image/x-wmf"/>
  <Override PartName="/ppt/media/click.wav" ContentType="audio/x-wav"/>
  <Override PartName="/ppt/media/image5.jpeg" ContentType="image/jpeg"/>
  <Override PartName="/ppt/media/laser.wav" ContentType="audio/x-wav"/>
  <Override PartName="/ppt/media/cashreg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BE3F-9588-41BD-B584-65227C864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8C19-A452-428B-8900-137237C3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9F81-C884-469D-A931-CB6C6B87C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8E3C-F04F-49B5-990D-B939253AE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A1D7-9EC9-46D7-9FCC-E2CD5AFB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9543-4D59-4D8E-BABD-B4517690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D6AA-A528-4374-A3D0-6E2D588A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2598-FDE4-4A9B-8976-0023676C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A643-FC5C-4EDC-902E-EF98DBA4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A23A-AC1D-45F0-8BE8-B441562F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E1BC-A543-46C3-B7E7-0E159F54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F6FB-7864-4717-A944-F89484FE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6987-1003-4FE6-80D3-03EB6E78C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32000" y="4292640"/>
            <a:ext cx="7219800" cy="6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Выполнилнила: Рочева Мария, 231г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00000" y="1125360"/>
            <a:ext cx="763272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пасен ли комариный укус?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0">
    <p:zoom dir="out"/>
    <p:sndAc>
      <p:stSnd>
        <p:snd r:embed="rId1" name="wi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ех ли одинаково кусают комары 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53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чество давно подметило, что одних людей комары кусают чаще, а других реже. Как это объясни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тягательным образом действует запах тела. Особенно привлекают пот, температура тела, выделение углекислого газа, а у людей — также цвет и поверхность одеж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ех ли одинаково кусают кома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5338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 выше у вас температура тела, тем больше вероятность стать комариным обе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ктр феромонов, выделяемых человеком,широк и среди них выделяются компоненты, притягивающие и отпугивающие кома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лекающие вырабатываются в организме всех людей, а вот те, что комаров отпугивают, — только у некотор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одной из версий, отпугивающие компоненты пахнут для комаров сильнее, чем привлекающие. По другой — люди, которых комары не кусают, просто лишены запахов, привлекающих насеко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156000" y="1268280"/>
            <a:ext cx="2530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blinds dir="horz"/>
    <p:sndAc>
      <p:stSnd>
        <p:snd r:embed="rId1" name="lase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влияет на активность комар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ивность комаров зависит от метеорологических факторов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рость воздушного течения (при скорости ветра 2 —3 м/сек летать комары уже не могут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тенсивность освещения (при солнце комары не летают, искусственные источники света: они не просто привлекают комаров, а удерживают их своим светом в активном состоянии, в ясные ночи, когда приближается полнолуние, комары нападают все время пере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мпература: любят средние показатели температуры +15-25,время перед грозой когда в воздухе так знойно и душ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ивность комаров делят на вечерний максимум, ночной минимум, утренний пик, дневным минимум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comb dir="vert"/>
    <p:sndAc>
      <p:stSnd>
        <p:snd r:embed="rId1" name="suction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отличить малярийног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ара от немалярийны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лярий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сидящего на стене комара брюшко косо приподнято, голова с хоботком, грудь и брюшко — находится на одной прямой линии, образующей с основанием острый угол. Обе стороны угла соединены второй парой ног, и получается в общем намек на букву А. Осторожно, анофеле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ичинки держатся на поверхности воды в горизонтальном положении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малярий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сидящих комаров брюшко приложено к основанию, т. е. все тело параллельно основа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личинок из воды выступает конец дыхательной трубочки, а их тело образует с поверхностью воды всегда острый уг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zoom dir="in"/>
    <p:sndAc>
      <p:stSnd>
        <p:snd r:embed="rId1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лучше защититься от комар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ое количество химических препаратов, отпугивающих насекомых -  репелленты. Королем репеллентов уже более 50 лет является диэтилтолуамид (ДЭТА, или DE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ксикологи считают, что для малышей до 3 - 5 и даже 8 лет использование репеллентных средств недопусти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рекомендуется наносить репеллент на лицо: вместе с потом препарат может попасть в глаза и р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следует наносить репелленты на участки тела, закрытые одеждой - это увеличит количество препарата, поглощаемого кож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тей лучше всего защищать противомоскитными сетками или наносить средство на одежду или препаратами с минимальных содержанием действующего вещества (6 -10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тивопоказаны репелленты также беременным женщинам и людям с заболеваниями кож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омещении лучшая защита от комаров — мелкие сетки на окнах, вентилятор, установленный у крова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пугивающим средством является электрофумига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ыстро действует инсектецидный (уничтожающий) аэрозоль, однако увлекаться не стоит :аэрозоли – самые токсичные из средств. На время обработки помещений изолируйте ваших домашних питомцев, накройте аквариумы с рыбами, а сами обработав помещение, покиньте его на некоторое врем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comb dir="horz"/>
    <p:sndAc>
      <p:stSnd>
        <p:snd r:embed="rId1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блемные 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чем комару пить кров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ие особенности строения комара дает возможность пить кровь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чему комариный укус вызывает зуд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ем опасен комариный уку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гут ли комары передавать возбудителей болезн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ех ли одинаково кусают комары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002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чем комару пить кровь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68144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овь пьют самки комаров.()БЕЛКИ?() Самцы же питаются цветочным нектаром и соками растени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(УГЛЕВОДЫ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435280" y="3860280"/>
            <a:ext cx="3319560" cy="2187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237360" y="1409760"/>
            <a:ext cx="1714320" cy="1181160"/>
          </a:xfrm>
          <a:prstGeom prst="rect">
            <a:avLst/>
          </a:prstGeom>
          <a:ln w="0">
            <a:noFill/>
          </a:ln>
        </p:spPr>
      </p:pic>
    </p:spTree>
  </p:cSld>
  <p:transition spd="slow" advTm="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чем комару пить кров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только что родившиеся самки комара в яичниках начинают развиваться яички. В связи с этим у самок пробуждается и инстинкт, заставляющий их искать хозяина и напиться крови, необходимой для дозревания яичек.(брачный перио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240000" cy="3889440"/>
          </a:xfrm>
          <a:prstGeom prst="rect">
            <a:avLst/>
          </a:prstGeom>
          <a:ln w="0">
            <a:noFill/>
          </a:ln>
        </p:spPr>
      </p:pic>
    </p:spTree>
  </p:cSld>
  <p:transition spd="med" advTm="0">
    <p:wheel spokes="8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чем комару пить кров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пившись крови, отяжелевшие самки улетают в укрытия, где усваивают пищу и ждут, когда созреют яички. А потом уже остается подыскать удобное место для откладки 200 — 300 яичек, и цикл законч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3529080" cy="3745080"/>
          </a:xfrm>
          <a:prstGeom prst="rect">
            <a:avLst/>
          </a:prstGeom>
          <a:ln w="0">
            <a:noFill/>
          </a:ln>
        </p:spPr>
      </p:pic>
    </p:spTree>
  </p:cSld>
  <p:transition spd="med" advTm="0">
    <p:wedge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особенности строения комара дает возможность пить кров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товой орган комара имеет очень сложное строение. В нем можно различить все основные элементы ротового аппарата насекомых, но все они видоизменены и приспособлены для выполнения главной функции — сосания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укусе нижняя губа отдергивается, и в кожу проникают до этого скрытые парные мандибулы и максиллы, измененные в виде колющих щетинок челюсти, прокалывающие и пропиливающие путь для собственно сосущего элемента хоботка — непарной колющей щетинки (гипофаринкс) с каналом слюнных желез, и верхняя губа с желобком, по которому всасывается кровь. Свободно по бокам хоботка расположены щупальц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самцов они такой же длины, как и хоботок, или даже чуть больше, причем в большинстве случаев последний их членик имеет колбовидную форму и густо покрыт волоск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p:transition spd="med" advTm="0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чему комариный укус вызывает зуд?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11280" y="981000"/>
            <a:ext cx="44751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юна комаров содержит белки, которые не дают крови свертываться и запускающие аллергические реа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97000" y="1268280"/>
            <a:ext cx="2265480" cy="4032360"/>
          </a:xfrm>
          <a:prstGeom prst="rect">
            <a:avLst/>
          </a:prstGeom>
          <a:ln w="0">
            <a:noFill/>
          </a:ln>
        </p:spPr>
      </p:pic>
    </p:spTree>
  </p:cSld>
  <p:transition spd="med" advTm="0">
    <p:plus/>
    <p:sndAc>
      <p:stSnd>
        <p:snd r:embed="rId2" name="click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Чем опасен комариный укус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44751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женные аллергические реакции вплоть до анафилактического шока пос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чесанные укусы нагнаив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туют не прихлопывать комаров на себе, а стряхивать или сбивать щелчкам, организме комаров содержатся опасные для человека грибки, они могут попасть в организм человека через кожу, когда мы прихлопываем и размазываем ком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но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екций многих заразных болезней, вызываемых простейшими, бактериями, вирусами и даже черв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203800" y="1557360"/>
            <a:ext cx="2897280" cy="3600360"/>
          </a:xfrm>
          <a:prstGeom prst="rect">
            <a:avLst/>
          </a:prstGeom>
          <a:ln w="0">
            <a:noFill/>
          </a:ln>
        </p:spPr>
      </p:pic>
    </p:spTree>
  </p:cSld>
  <p:transition spd="med" advTm="0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огут ли комары передавать возбудителей болезне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новая боле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ля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хорадка Ден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лтая лихора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адно-нильская лихора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нцефал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48320" y="1812960"/>
            <a:ext cx="4038480" cy="4100400"/>
          </a:xfrm>
          <a:prstGeom prst="rect">
            <a:avLst/>
          </a:prstGeom>
          <a:ln w="0">
            <a:noFill/>
          </a:ln>
        </p:spPr>
      </p:pic>
    </p:spTree>
  </p:cSld>
  <p:transition spd="med" advTm="0">
    <p:wheel spokes="2"/>
    <p:sndAc>
      <p:stSnd>
        <p:snd r:embed="rId2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13:31:49Z</dcterms:created>
  <dc:creator>07110</dc:creator>
  <dc:description/>
  <dc:language>en-US</dc:language>
  <cp:lastModifiedBy>07110</cp:lastModifiedBy>
  <dcterms:modified xsi:type="dcterms:W3CDTF">2009-12-17T13:43:55Z</dcterms:modified>
  <cp:revision>8</cp:revision>
  <dc:subject/>
  <dc:title>Слайд 1</dc:title>
</cp:coreProperties>
</file>